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9E33-80F0-453A-9B1A-3BB4DD74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E325-8395-4651-820A-0E95F316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937F-6A0E-4E6F-878B-F8E8C610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62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516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52B6-D931-4612-AF9C-1498D676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903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58FC-DB12-4713-AE41-5FC41F0C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62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51680" y="160020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52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62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51680" y="3964320"/>
            <a:ext cx="274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C29C-7858-43DE-B30F-01CF571D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07D3-9883-4BA1-8023-FA4E88CC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EF5-5CDE-4E4E-ABC3-0A46C1F6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7432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4826-41F9-424D-B94F-660CB3D5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50C7-7D6C-4954-A04C-C093A433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4160" y="396432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3EF-64E0-4D6F-8D5C-EBA5EF22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160" y="1600200"/>
            <a:ext cx="4164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964320"/>
            <a:ext cx="8534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4908-FBDC-45A0-9E29-724262E6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133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55272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67120" y="6552720"/>
            <a:ext cx="1676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AF02-6567-4FD2-810A-B990C85A8399}" type="slidenum">
              <a:rPr b="0" lang="en-US" sz="1200" spc="-1" strike="noStrike">
                <a:solidFill>
                  <a:srgbClr val="cc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60012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3976560" cy="6562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cc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39625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icroscope Basics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174840" cy="5581800"/>
          </a:xfrm>
          <a:prstGeom prst="rect">
            <a:avLst/>
          </a:prstGeom>
          <a:ln w="0">
            <a:noFill/>
          </a:ln>
        </p:spPr>
      </p:pic>
      <p:sp>
        <p:nvSpPr>
          <p:cNvPr id="163" name="Line 3"/>
          <p:cNvSpPr/>
          <p:nvPr/>
        </p:nvSpPr>
        <p:spPr>
          <a:xfrm flipH="1">
            <a:off x="5257800" y="838080"/>
            <a:ext cx="14479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6858000" y="457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295280" y="762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2971800" y="990720"/>
            <a:ext cx="14479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0" y="137160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s the HIGH- and LOW- power objective LENSES; can be rotated to change MAGNIF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2286000" y="228600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0" y="2666880"/>
            <a:ext cx="2819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fication rang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X to 40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2743200" y="2895480"/>
            <a:ext cx="6094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152280" y="3581280"/>
            <a:ext cx="1981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 CLIP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 the slide in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2057400" y="3352680"/>
            <a:ext cx="1676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0" y="4343400"/>
            <a:ext cx="228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PHRAG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ulates the amount of LIGHT on the speci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4"/>
          <p:cNvSpPr/>
          <p:nvPr/>
        </p:nvSpPr>
        <p:spPr>
          <a:xfrm flipV="1">
            <a:off x="2133720" y="373356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0" y="5334120"/>
            <a:ext cx="2666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SOURC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jects light UPWARDS through the diaphragm, the SPECIMEN, and the LE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2362320" y="480024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5943600" y="5867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orts the MICRO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8"/>
          <p:cNvSpPr/>
          <p:nvPr/>
        </p:nvSpPr>
        <p:spPr>
          <a:xfrm flipH="1" flipV="1">
            <a:off x="5181120" y="5486040"/>
            <a:ext cx="76212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5943600" y="480060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E ADJUSTMENT KNO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es the stage slightly to SHARPEN the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0"/>
          <p:cNvSpPr/>
          <p:nvPr/>
        </p:nvSpPr>
        <p:spPr>
          <a:xfrm flipH="1" flipV="1">
            <a:off x="5257440" y="4648320"/>
            <a:ext cx="6858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174840" cy="5581800"/>
          </a:xfrm>
          <a:prstGeom prst="rect">
            <a:avLst/>
          </a:prstGeom>
          <a:ln w="0">
            <a:noFill/>
          </a:ln>
        </p:spPr>
      </p:pic>
      <p:sp>
        <p:nvSpPr>
          <p:cNvPr id="182" name="Line 3"/>
          <p:cNvSpPr/>
          <p:nvPr/>
        </p:nvSpPr>
        <p:spPr>
          <a:xfrm flipH="1">
            <a:off x="5257800" y="838080"/>
            <a:ext cx="14479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858000" y="457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295280" y="762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6"/>
          <p:cNvSpPr/>
          <p:nvPr/>
        </p:nvSpPr>
        <p:spPr>
          <a:xfrm>
            <a:off x="2971800" y="990720"/>
            <a:ext cx="14479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0" y="137160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s the HIGH- and LOW- power objective LENSES; can be rotated to change MAGNIF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2286000" y="228600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0" y="2666880"/>
            <a:ext cx="2819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fication rang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X to 40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>
            <a:off x="2743200" y="2895480"/>
            <a:ext cx="6094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152280" y="3581280"/>
            <a:ext cx="1981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 CLIP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 the slide in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 flipV="1">
            <a:off x="2057400" y="3352680"/>
            <a:ext cx="1676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0" y="4343400"/>
            <a:ext cx="228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PHRAG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ulates the amount of LIGHT on the speci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 flipV="1">
            <a:off x="2133720" y="373356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0" y="5334120"/>
            <a:ext cx="2666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SOURC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jects light UPWARDS through the diaphragm, the SPECIMEN, and the LE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6"/>
          <p:cNvSpPr/>
          <p:nvPr/>
        </p:nvSpPr>
        <p:spPr>
          <a:xfrm flipV="1">
            <a:off x="2362320" y="480024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5943600" y="5867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orts the MICRO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8"/>
          <p:cNvSpPr/>
          <p:nvPr/>
        </p:nvSpPr>
        <p:spPr>
          <a:xfrm flipH="1" flipV="1">
            <a:off x="5181120" y="5486040"/>
            <a:ext cx="76212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9"/>
          <p:cNvSpPr/>
          <p:nvPr/>
        </p:nvSpPr>
        <p:spPr>
          <a:xfrm>
            <a:off x="5943600" y="480060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E ADJUSTMENT KNO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es the stage slightly to SHARPEN the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0"/>
          <p:cNvSpPr/>
          <p:nvPr/>
        </p:nvSpPr>
        <p:spPr>
          <a:xfrm flipH="1" flipV="1">
            <a:off x="5257440" y="4648320"/>
            <a:ext cx="6858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1"/>
          <p:cNvSpPr/>
          <p:nvPr/>
        </p:nvSpPr>
        <p:spPr>
          <a:xfrm>
            <a:off x="6095880" y="358128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ARSE ADJUSTMENT KN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es the stage up and down for FOC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2"/>
          <p:cNvSpPr/>
          <p:nvPr/>
        </p:nvSpPr>
        <p:spPr>
          <a:xfrm flipH="1">
            <a:off x="5486040" y="3809880"/>
            <a:ext cx="609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174840" cy="5581800"/>
          </a:xfrm>
          <a:prstGeom prst="rect">
            <a:avLst/>
          </a:prstGeom>
          <a:ln w="0">
            <a:noFill/>
          </a:ln>
        </p:spPr>
      </p:pic>
      <p:sp>
        <p:nvSpPr>
          <p:cNvPr id="203" name="Line 3"/>
          <p:cNvSpPr/>
          <p:nvPr/>
        </p:nvSpPr>
        <p:spPr>
          <a:xfrm flipH="1">
            <a:off x="5257800" y="838080"/>
            <a:ext cx="14479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6858000" y="457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295280" y="762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6"/>
          <p:cNvSpPr/>
          <p:nvPr/>
        </p:nvSpPr>
        <p:spPr>
          <a:xfrm>
            <a:off x="2971800" y="990720"/>
            <a:ext cx="14479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0" y="137160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s the HIGH- and LOW- power objective LENSES; can be rotated to change MAGNIF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8"/>
          <p:cNvSpPr/>
          <p:nvPr/>
        </p:nvSpPr>
        <p:spPr>
          <a:xfrm>
            <a:off x="2286000" y="228600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0" y="2666880"/>
            <a:ext cx="2819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fication rang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X to 40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2743200" y="2895480"/>
            <a:ext cx="6094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152280" y="3581280"/>
            <a:ext cx="1981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 CLIP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 the slide in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V="1">
            <a:off x="2057400" y="3352680"/>
            <a:ext cx="1676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0" y="4343400"/>
            <a:ext cx="228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PHRAG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ulates the amount of LIGHT on the speci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 flipV="1">
            <a:off x="2133720" y="373356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5"/>
          <p:cNvSpPr/>
          <p:nvPr/>
        </p:nvSpPr>
        <p:spPr>
          <a:xfrm>
            <a:off x="0" y="5334120"/>
            <a:ext cx="2666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SOURC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jects light UPWARDS through the diaphragm, the SPECIMEN, and the LE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 flipV="1">
            <a:off x="2362320" y="480024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7"/>
          <p:cNvSpPr/>
          <p:nvPr/>
        </p:nvSpPr>
        <p:spPr>
          <a:xfrm>
            <a:off x="5943600" y="5867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orts the MICRO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8"/>
          <p:cNvSpPr/>
          <p:nvPr/>
        </p:nvSpPr>
        <p:spPr>
          <a:xfrm flipH="1" flipV="1">
            <a:off x="5181120" y="5486040"/>
            <a:ext cx="76212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9"/>
          <p:cNvSpPr/>
          <p:nvPr/>
        </p:nvSpPr>
        <p:spPr>
          <a:xfrm>
            <a:off x="5943600" y="480060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E ADJUSTMENT KNO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es the stage slightly to SHARPEN the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0"/>
          <p:cNvSpPr/>
          <p:nvPr/>
        </p:nvSpPr>
        <p:spPr>
          <a:xfrm flipH="1" flipV="1">
            <a:off x="5257440" y="4648320"/>
            <a:ext cx="6858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6095880" y="358128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ARSE ADJUSTMENT KN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es the stage up and down for FOC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2"/>
          <p:cNvSpPr/>
          <p:nvPr/>
        </p:nvSpPr>
        <p:spPr>
          <a:xfrm flipH="1">
            <a:off x="5486040" y="3809880"/>
            <a:ext cx="609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3"/>
          <p:cNvSpPr/>
          <p:nvPr/>
        </p:nvSpPr>
        <p:spPr>
          <a:xfrm>
            <a:off x="6172200" y="2819520"/>
            <a:ext cx="2971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orts the SLIDE being view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24"/>
          <p:cNvSpPr/>
          <p:nvPr/>
        </p:nvSpPr>
        <p:spPr>
          <a:xfrm flipH="1">
            <a:off x="5334120" y="3048120"/>
            <a:ext cx="9144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174840" cy="5581800"/>
          </a:xfrm>
          <a:prstGeom prst="rect">
            <a:avLst/>
          </a:prstGeom>
          <a:ln w="0">
            <a:noFill/>
          </a:ln>
        </p:spPr>
      </p:pic>
      <p:sp>
        <p:nvSpPr>
          <p:cNvPr id="226" name="Line 3"/>
          <p:cNvSpPr/>
          <p:nvPr/>
        </p:nvSpPr>
        <p:spPr>
          <a:xfrm flipH="1">
            <a:off x="5257800" y="838080"/>
            <a:ext cx="14479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6858000" y="457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295280" y="762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2971800" y="990720"/>
            <a:ext cx="14479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0" y="137160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s the HIGH- and LOW- power objective LENSES; can be rotated to change MAGNIF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8"/>
          <p:cNvSpPr/>
          <p:nvPr/>
        </p:nvSpPr>
        <p:spPr>
          <a:xfrm>
            <a:off x="2286000" y="228600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9"/>
          <p:cNvSpPr/>
          <p:nvPr/>
        </p:nvSpPr>
        <p:spPr>
          <a:xfrm>
            <a:off x="0" y="2666880"/>
            <a:ext cx="2819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fication rang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X to 40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>
            <a:off x="2743200" y="2895480"/>
            <a:ext cx="6094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152280" y="3581280"/>
            <a:ext cx="1981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 CLIP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 the slide in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2"/>
          <p:cNvSpPr/>
          <p:nvPr/>
        </p:nvSpPr>
        <p:spPr>
          <a:xfrm flipV="1">
            <a:off x="2057400" y="3352680"/>
            <a:ext cx="1676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3"/>
          <p:cNvSpPr/>
          <p:nvPr/>
        </p:nvSpPr>
        <p:spPr>
          <a:xfrm>
            <a:off x="0" y="4343400"/>
            <a:ext cx="228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PHRAG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ulates the amount of LIGHT on the speci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4"/>
          <p:cNvSpPr/>
          <p:nvPr/>
        </p:nvSpPr>
        <p:spPr>
          <a:xfrm flipV="1">
            <a:off x="2133720" y="373356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0" y="5334120"/>
            <a:ext cx="2666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SOURC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jects light UPWARDS through the diaphragm, the SPECIMEN, and the LE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6"/>
          <p:cNvSpPr/>
          <p:nvPr/>
        </p:nvSpPr>
        <p:spPr>
          <a:xfrm flipV="1">
            <a:off x="2362320" y="480024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5943600" y="5867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orts the MICRO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8"/>
          <p:cNvSpPr/>
          <p:nvPr/>
        </p:nvSpPr>
        <p:spPr>
          <a:xfrm flipH="1" flipV="1">
            <a:off x="5181120" y="5486040"/>
            <a:ext cx="76212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9"/>
          <p:cNvSpPr/>
          <p:nvPr/>
        </p:nvSpPr>
        <p:spPr>
          <a:xfrm>
            <a:off x="5943600" y="480060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E ADJUSTMENT KNO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es the stage slightly to SHARPEN the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20"/>
          <p:cNvSpPr/>
          <p:nvPr/>
        </p:nvSpPr>
        <p:spPr>
          <a:xfrm flipH="1" flipV="1">
            <a:off x="5257440" y="4648320"/>
            <a:ext cx="6858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1"/>
          <p:cNvSpPr/>
          <p:nvPr/>
        </p:nvSpPr>
        <p:spPr>
          <a:xfrm>
            <a:off x="6095880" y="358128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ARSE ADJUSTMENT KN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es the stage up and down for FOC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22"/>
          <p:cNvSpPr/>
          <p:nvPr/>
        </p:nvSpPr>
        <p:spPr>
          <a:xfrm flipH="1">
            <a:off x="5486040" y="3809880"/>
            <a:ext cx="609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3"/>
          <p:cNvSpPr/>
          <p:nvPr/>
        </p:nvSpPr>
        <p:spPr>
          <a:xfrm>
            <a:off x="6172200" y="2819520"/>
            <a:ext cx="2971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orts the SLIDE being view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4"/>
          <p:cNvSpPr/>
          <p:nvPr/>
        </p:nvSpPr>
        <p:spPr>
          <a:xfrm flipH="1">
            <a:off x="5334120" y="3048120"/>
            <a:ext cx="9144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5"/>
          <p:cNvSpPr/>
          <p:nvPr/>
        </p:nvSpPr>
        <p:spPr>
          <a:xfrm>
            <a:off x="6019920" y="1752480"/>
            <a:ext cx="3124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d to SUPPORT the microscope when carr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26"/>
          <p:cNvSpPr/>
          <p:nvPr/>
        </p:nvSpPr>
        <p:spPr>
          <a:xfrm flipH="1">
            <a:off x="5181480" y="1981080"/>
            <a:ext cx="9144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174840" cy="5581800"/>
          </a:xfrm>
          <a:prstGeom prst="rect">
            <a:avLst/>
          </a:prstGeom>
          <a:ln w="0">
            <a:noFill/>
          </a:ln>
        </p:spPr>
      </p:pic>
      <p:sp>
        <p:nvSpPr>
          <p:cNvPr id="251" name="Line 3"/>
          <p:cNvSpPr/>
          <p:nvPr/>
        </p:nvSpPr>
        <p:spPr>
          <a:xfrm flipH="1">
            <a:off x="5257800" y="838080"/>
            <a:ext cx="14479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6858000" y="457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295280" y="762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6"/>
          <p:cNvSpPr/>
          <p:nvPr/>
        </p:nvSpPr>
        <p:spPr>
          <a:xfrm>
            <a:off x="2971800" y="990720"/>
            <a:ext cx="14479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0" y="137160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s the HIGH- and LOW- power objective LENSES; can be rotated to change MAGNIF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8"/>
          <p:cNvSpPr/>
          <p:nvPr/>
        </p:nvSpPr>
        <p:spPr>
          <a:xfrm>
            <a:off x="2286000" y="228600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0" y="2666880"/>
            <a:ext cx="2819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fication rang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X to 40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0"/>
          <p:cNvSpPr/>
          <p:nvPr/>
        </p:nvSpPr>
        <p:spPr>
          <a:xfrm>
            <a:off x="2743200" y="2895480"/>
            <a:ext cx="6094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152280" y="3581280"/>
            <a:ext cx="1981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 CLIP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 the slide in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2"/>
          <p:cNvSpPr/>
          <p:nvPr/>
        </p:nvSpPr>
        <p:spPr>
          <a:xfrm flipV="1">
            <a:off x="2057400" y="3352680"/>
            <a:ext cx="1676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0" y="4343400"/>
            <a:ext cx="228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PHRAG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ulates the amount of LIGHT on the speci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4"/>
          <p:cNvSpPr/>
          <p:nvPr/>
        </p:nvSpPr>
        <p:spPr>
          <a:xfrm flipV="1">
            <a:off x="2133720" y="373356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0" y="5334120"/>
            <a:ext cx="2666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SOURC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jects light UPWARDS through the diaphragm, the SPECIMEN, and the LE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6"/>
          <p:cNvSpPr/>
          <p:nvPr/>
        </p:nvSpPr>
        <p:spPr>
          <a:xfrm flipV="1">
            <a:off x="2362320" y="480024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7"/>
          <p:cNvSpPr/>
          <p:nvPr/>
        </p:nvSpPr>
        <p:spPr>
          <a:xfrm>
            <a:off x="5943600" y="5867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orts the MICRO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8"/>
          <p:cNvSpPr/>
          <p:nvPr/>
        </p:nvSpPr>
        <p:spPr>
          <a:xfrm flipH="1" flipV="1">
            <a:off x="5181120" y="5486040"/>
            <a:ext cx="76212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9"/>
          <p:cNvSpPr/>
          <p:nvPr/>
        </p:nvSpPr>
        <p:spPr>
          <a:xfrm>
            <a:off x="5943600" y="480060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E ADJUSTMENT KNO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es the stage slightly to SHARPEN the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0"/>
          <p:cNvSpPr/>
          <p:nvPr/>
        </p:nvSpPr>
        <p:spPr>
          <a:xfrm flipH="1" flipV="1">
            <a:off x="5257440" y="4648320"/>
            <a:ext cx="68580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1"/>
          <p:cNvSpPr/>
          <p:nvPr/>
        </p:nvSpPr>
        <p:spPr>
          <a:xfrm>
            <a:off x="6095880" y="3581280"/>
            <a:ext cx="3505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ARSE ADJUSTMENT KN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ves the stage up and down for FOC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2"/>
          <p:cNvSpPr/>
          <p:nvPr/>
        </p:nvSpPr>
        <p:spPr>
          <a:xfrm flipH="1">
            <a:off x="5486040" y="3809880"/>
            <a:ext cx="609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3"/>
          <p:cNvSpPr/>
          <p:nvPr/>
        </p:nvSpPr>
        <p:spPr>
          <a:xfrm>
            <a:off x="6172200" y="2819520"/>
            <a:ext cx="2971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orts the SLIDE being view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24"/>
          <p:cNvSpPr/>
          <p:nvPr/>
        </p:nvSpPr>
        <p:spPr>
          <a:xfrm flipH="1">
            <a:off x="5334120" y="3048120"/>
            <a:ext cx="9144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25"/>
          <p:cNvSpPr/>
          <p:nvPr/>
        </p:nvSpPr>
        <p:spPr>
          <a:xfrm>
            <a:off x="6019920" y="1752480"/>
            <a:ext cx="3124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d to SUPPORT the microscope when carr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6"/>
          <p:cNvSpPr/>
          <p:nvPr/>
        </p:nvSpPr>
        <p:spPr>
          <a:xfrm flipH="1">
            <a:off x="5181480" y="1981080"/>
            <a:ext cx="9144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174840" cy="5581800"/>
          </a:xfrm>
          <a:prstGeom prst="rect">
            <a:avLst/>
          </a:prstGeom>
          <a:ln w="0">
            <a:noFill/>
          </a:ln>
        </p:spPr>
      </p:pic>
      <p:sp>
        <p:nvSpPr>
          <p:cNvPr id="83" name="Line 6"/>
          <p:cNvSpPr/>
          <p:nvPr/>
        </p:nvSpPr>
        <p:spPr>
          <a:xfrm flipH="1">
            <a:off x="5257800" y="838080"/>
            <a:ext cx="14479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6858000" y="457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174840" cy="5581800"/>
          </a:xfrm>
          <a:prstGeom prst="rect">
            <a:avLst/>
          </a:prstGeom>
          <a:ln w="0">
            <a:noFill/>
          </a:ln>
        </p:spPr>
      </p:pic>
      <p:sp>
        <p:nvSpPr>
          <p:cNvPr id="86" name="Line 3"/>
          <p:cNvSpPr/>
          <p:nvPr/>
        </p:nvSpPr>
        <p:spPr>
          <a:xfrm flipH="1">
            <a:off x="5257800" y="838080"/>
            <a:ext cx="14479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858000" y="457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295280" y="762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6"/>
          <p:cNvSpPr/>
          <p:nvPr/>
        </p:nvSpPr>
        <p:spPr>
          <a:xfrm>
            <a:off x="2971800" y="990720"/>
            <a:ext cx="14479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174840" cy="5581800"/>
          </a:xfrm>
          <a:prstGeom prst="rect">
            <a:avLst/>
          </a:prstGeom>
          <a:ln w="0">
            <a:noFill/>
          </a:ln>
        </p:spPr>
      </p:pic>
      <p:sp>
        <p:nvSpPr>
          <p:cNvPr id="91" name="Line 3"/>
          <p:cNvSpPr/>
          <p:nvPr/>
        </p:nvSpPr>
        <p:spPr>
          <a:xfrm flipH="1">
            <a:off x="5257800" y="838080"/>
            <a:ext cx="14479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858000" y="457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295280" y="762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>
            <a:off x="2971800" y="990720"/>
            <a:ext cx="14479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0" y="137160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s the HIGH- and LOW- power objective LENSES; can be rotated to change MAGNIF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>
            <a:off x="2286000" y="228600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174840" cy="5581800"/>
          </a:xfrm>
          <a:prstGeom prst="rect">
            <a:avLst/>
          </a:prstGeom>
          <a:ln w="0">
            <a:noFill/>
          </a:ln>
        </p:spPr>
      </p:pic>
      <p:sp>
        <p:nvSpPr>
          <p:cNvPr id="98" name="Line 3"/>
          <p:cNvSpPr/>
          <p:nvPr/>
        </p:nvSpPr>
        <p:spPr>
          <a:xfrm flipH="1">
            <a:off x="5257800" y="838080"/>
            <a:ext cx="14479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858000" y="457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295280" y="762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2971800" y="990720"/>
            <a:ext cx="14479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0" y="137160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s the HIGH- and LOW- power objective LENSES; can be rotated to change MAGNIF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2286000" y="228600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0" y="2666880"/>
            <a:ext cx="2819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fication rang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X to 40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"/>
          <p:cNvSpPr/>
          <p:nvPr/>
        </p:nvSpPr>
        <p:spPr>
          <a:xfrm>
            <a:off x="2743200" y="2895480"/>
            <a:ext cx="6094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174840" cy="5581800"/>
          </a:xfrm>
          <a:prstGeom prst="rect">
            <a:avLst/>
          </a:prstGeom>
          <a:ln w="0">
            <a:noFill/>
          </a:ln>
        </p:spPr>
      </p:pic>
      <p:sp>
        <p:nvSpPr>
          <p:cNvPr id="107" name="Line 3"/>
          <p:cNvSpPr/>
          <p:nvPr/>
        </p:nvSpPr>
        <p:spPr>
          <a:xfrm flipH="1">
            <a:off x="5257800" y="838080"/>
            <a:ext cx="14479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858000" y="457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295280" y="762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2971800" y="990720"/>
            <a:ext cx="14479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0" y="137160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s the HIGH- and LOW- power objective LENSES; can be rotated to change MAGNIF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2286000" y="228600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0" y="2666880"/>
            <a:ext cx="2819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fication rang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X to 40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0"/>
          <p:cNvSpPr/>
          <p:nvPr/>
        </p:nvSpPr>
        <p:spPr>
          <a:xfrm>
            <a:off x="2743200" y="2895480"/>
            <a:ext cx="6094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152280" y="3581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 CL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 the slide in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2"/>
          <p:cNvSpPr/>
          <p:nvPr/>
        </p:nvSpPr>
        <p:spPr>
          <a:xfrm flipV="1">
            <a:off x="2057400" y="3352680"/>
            <a:ext cx="1676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174840" cy="5581800"/>
          </a:xfrm>
          <a:prstGeom prst="rect">
            <a:avLst/>
          </a:prstGeom>
          <a:ln w="0">
            <a:noFill/>
          </a:ln>
        </p:spPr>
      </p:pic>
      <p:sp>
        <p:nvSpPr>
          <p:cNvPr id="118" name="Line 3"/>
          <p:cNvSpPr/>
          <p:nvPr/>
        </p:nvSpPr>
        <p:spPr>
          <a:xfrm flipH="1">
            <a:off x="5257800" y="838080"/>
            <a:ext cx="14479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858000" y="457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295280" y="762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2971800" y="990720"/>
            <a:ext cx="14479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0" y="137160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s the HIGH- and LOW- power objective LENSES; can be rotated to change MAGNIF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286000" y="228600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0" y="2666880"/>
            <a:ext cx="2819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fication rang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X to 40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0"/>
          <p:cNvSpPr/>
          <p:nvPr/>
        </p:nvSpPr>
        <p:spPr>
          <a:xfrm>
            <a:off x="2743200" y="2895480"/>
            <a:ext cx="6094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152280" y="3581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 CL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 the slide in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2"/>
          <p:cNvSpPr/>
          <p:nvPr/>
        </p:nvSpPr>
        <p:spPr>
          <a:xfrm flipV="1">
            <a:off x="2057400" y="3352680"/>
            <a:ext cx="1676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0" y="4267080"/>
            <a:ext cx="228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PHRA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ulates the amount of LIGHT on the speci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4"/>
          <p:cNvSpPr/>
          <p:nvPr/>
        </p:nvSpPr>
        <p:spPr>
          <a:xfrm flipV="1">
            <a:off x="2133720" y="373356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174840" cy="5581800"/>
          </a:xfrm>
          <a:prstGeom prst="rect">
            <a:avLst/>
          </a:prstGeom>
          <a:ln w="0">
            <a:noFill/>
          </a:ln>
        </p:spPr>
      </p:pic>
      <p:sp>
        <p:nvSpPr>
          <p:cNvPr id="131" name="Line 3"/>
          <p:cNvSpPr/>
          <p:nvPr/>
        </p:nvSpPr>
        <p:spPr>
          <a:xfrm flipH="1">
            <a:off x="5257800" y="838080"/>
            <a:ext cx="14479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58000" y="457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295280" y="762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2971800" y="990720"/>
            <a:ext cx="14479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0" y="137160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s the HIGH- and LOW- power objective LENSES; can be rotated to change MAGNIF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2286000" y="228600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2666880"/>
            <a:ext cx="2819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fication rang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X to 40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2743200" y="2895480"/>
            <a:ext cx="6094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152280" y="3581280"/>
            <a:ext cx="1981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 CLIP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 the slide in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2"/>
          <p:cNvSpPr/>
          <p:nvPr/>
        </p:nvSpPr>
        <p:spPr>
          <a:xfrm flipV="1">
            <a:off x="2057400" y="3352680"/>
            <a:ext cx="1676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0" y="4343400"/>
            <a:ext cx="228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PHRAG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ulates the amount of LIGHT on the speci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4"/>
          <p:cNvSpPr/>
          <p:nvPr/>
        </p:nvSpPr>
        <p:spPr>
          <a:xfrm flipV="1">
            <a:off x="2133720" y="373356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0" y="5334120"/>
            <a:ext cx="2666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SOURC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jects light UPWARDS through the diaphragm, the SPECIMEN, and the LE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6"/>
          <p:cNvSpPr/>
          <p:nvPr/>
        </p:nvSpPr>
        <p:spPr>
          <a:xfrm flipV="1">
            <a:off x="2362320" y="480024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2819520" y="609480"/>
            <a:ext cx="3174840" cy="5581800"/>
          </a:xfrm>
          <a:prstGeom prst="rect">
            <a:avLst/>
          </a:prstGeom>
          <a:ln w="0">
            <a:noFill/>
          </a:ln>
        </p:spPr>
      </p:pic>
      <p:sp>
        <p:nvSpPr>
          <p:cNvPr id="146" name="Line 3"/>
          <p:cNvSpPr/>
          <p:nvPr/>
        </p:nvSpPr>
        <p:spPr>
          <a:xfrm flipH="1">
            <a:off x="5257800" y="838080"/>
            <a:ext cx="14479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858000" y="4572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ular le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yepie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295280" y="7621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dy Tu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2971800" y="990720"/>
            <a:ext cx="144792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0" y="137160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sepie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s the HIGH- and LOW- power objective LENSES; can be rotated to change MAGNIFIC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2286000" y="2286000"/>
            <a:ext cx="13716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0" y="2666880"/>
            <a:ext cx="28195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JECTIVE LE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gnification ranges 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X to 40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0"/>
          <p:cNvSpPr/>
          <p:nvPr/>
        </p:nvSpPr>
        <p:spPr>
          <a:xfrm>
            <a:off x="2743200" y="2895480"/>
            <a:ext cx="6094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152280" y="3581280"/>
            <a:ext cx="1981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GE CLIP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 the slide in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2"/>
          <p:cNvSpPr/>
          <p:nvPr/>
        </p:nvSpPr>
        <p:spPr>
          <a:xfrm flipV="1">
            <a:off x="2057400" y="3352680"/>
            <a:ext cx="16765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0" y="4343400"/>
            <a:ext cx="2286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APHRAG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ulates the amount of LIGHT on the speci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4"/>
          <p:cNvSpPr/>
          <p:nvPr/>
        </p:nvSpPr>
        <p:spPr>
          <a:xfrm flipV="1">
            <a:off x="2133720" y="373356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0" y="5334120"/>
            <a:ext cx="2666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SOURC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jects light UPWARDS through the diaphragm, the SPECIMEN, and the LE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 flipV="1">
            <a:off x="2362320" y="4800240"/>
            <a:ext cx="14475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5943600" y="5867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orts the MICROSCO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8"/>
          <p:cNvSpPr/>
          <p:nvPr/>
        </p:nvSpPr>
        <p:spPr>
          <a:xfrm flipH="1" flipV="1">
            <a:off x="5181120" y="5486040"/>
            <a:ext cx="76212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3:44:21Z</dcterms:created>
  <dc:creator>Geneva Baker</dc:creator>
  <dc:description/>
  <dc:language>en-US</dc:language>
  <cp:lastModifiedBy>Howard County Administrator</cp:lastModifiedBy>
  <dcterms:modified xsi:type="dcterms:W3CDTF">2013-09-27T19:56:14Z</dcterms:modified>
  <cp:revision>4</cp:revision>
  <dc:subject/>
  <dc:title>Microscope Basics</dc:title>
</cp:coreProperties>
</file>